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30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E8B91-BE20-4F56-8101-49F3B12EF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2B4B-DE7C-4E92-B6B0-7CAD5C1A7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2C6F-B98C-4639-8B94-E1E7EAAD8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F33D-CFDC-4C23-8E5A-3CEEF2BDD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54F9-6ACA-43C9-82EE-CC7748AB8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9FC4-9E31-406B-99A5-F0FE62E572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ED8-4BAF-4771-B524-ABA054ECE3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F5D-D468-4863-AECF-85EF0821B89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126-D275-439A-B95B-293E50AEE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7318-DF0A-47A6-8347-95DC5985E6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FF6-F1FD-44E4-8F61-2198A75B33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904-B84E-4E8C-8689-8AD4BB7D62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33D9-15C7-4515-9118-BD18D4E761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111E-8FD2-4AC5-80AA-DA3B57A57B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C4F-C9B3-4865-B5AD-3134DB1034C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354-68AA-4C15-A3AD-D0FEBA1A6E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BA5C-7BD0-4BFF-8261-4FE34F4E640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035F-366D-454F-A105-4A2461A6CB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51A-7E8E-4178-81F4-745F1432E04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81987-C96C-4BD0-974F-23ACC27CD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02C6-2726-49FD-A834-2318D53FD23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0CE12-7F5B-4434-B353-749686E1C5A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2AE9C-A82A-4A35-8784-1F7A4FDECAF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645E3-08E9-4CD0-B24B-2341E10617E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2F566-F613-41F7-9AF9-C19F2470D17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0591E-C2BB-4A8D-BFB1-12C221F7696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B6E32-CDAD-4F65-B192-F6572D7BFFB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01EDD-B14F-45DA-8222-19F0FBB7988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0200A-5F70-465A-BC5B-3DE8954BE29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15110-A137-4DBF-8EFF-D13E0170381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69BAF-A09F-41F6-B0C6-1AAC9D58E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A8A6-3556-4FD2-8291-35A7508F05E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228A2-C3C2-4578-9898-2715A12117F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4116-DB28-48FF-9322-DA01132C16C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0ABD-83E4-454F-B54A-DECD8390B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C143-5865-4CD0-A433-2EA15ACFD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457C-E206-4366-9834-AC13C9B83B9E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4 Imagen" descr=""/>
          <p:cNvPicPr/>
          <p:nvPr/>
        </p:nvPicPr>
        <p:blipFill>
          <a:blip r:embed="rId2"/>
          <a:stretch/>
        </p:blipFill>
        <p:spPr>
          <a:xfrm>
            <a:off x="228600" y="2227320"/>
            <a:ext cx="4727520" cy="2930400"/>
          </a:xfrm>
          <a:prstGeom prst="rect">
            <a:avLst/>
          </a:prstGeom>
          <a:ln w="0">
            <a:noFill/>
          </a:ln>
        </p:spPr>
      </p:pic>
      <p:pic>
        <p:nvPicPr>
          <p:cNvPr id="44" name="15 Imagen" descr=""/>
          <p:cNvPicPr/>
          <p:nvPr/>
        </p:nvPicPr>
        <p:blipFill>
          <a:blip r:embed="rId3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45" name="16 Imagen" descr=""/>
          <p:cNvPicPr/>
          <p:nvPr/>
        </p:nvPicPr>
        <p:blipFill>
          <a:blip r:embed="rId4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46" name="13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18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19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20 Imagen" descr=""/>
          <p:cNvPicPr/>
          <p:nvPr/>
        </p:nvPicPr>
        <p:blipFill>
          <a:blip r:embed="rId5"/>
          <a:stretch/>
        </p:blipFill>
        <p:spPr>
          <a:xfrm>
            <a:off x="412920" y="179280"/>
            <a:ext cx="227160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18 Imagen" descr="http://intranet/Identidad%20corporativa/Logo%20oficial%20CDTI-MICINN.png"/>
          <p:cNvPicPr/>
          <p:nvPr/>
        </p:nvPicPr>
        <p:blipFill>
          <a:blip r:embed="rId6"/>
          <a:stretch/>
        </p:blipFill>
        <p:spPr>
          <a:xfrm>
            <a:off x="6588000" y="417600"/>
            <a:ext cx="1944720" cy="563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dt" idx="2"/>
          </p:nvPr>
        </p:nvSpPr>
        <p:spPr>
          <a:xfrm>
            <a:off x="8132400" y="6279840"/>
            <a:ext cx="83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89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90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94" name="13 Marcador de número de diapositiva"/>
          <p:cNvSpPr/>
          <p:nvPr/>
        </p:nvSpPr>
        <p:spPr>
          <a:xfrm>
            <a:off x="4344840" y="6526080"/>
            <a:ext cx="50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C908-FC33-4791-AF60-EBE92F02818E}" type="slidenum">
              <a:rPr b="0" lang="es-ES_tradnl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3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3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137" name="13 CuadroTexto"/>
          <p:cNvSpPr/>
          <p:nvPr/>
        </p:nvSpPr>
        <p:spPr>
          <a:xfrm>
            <a:off x="941400" y="1052640"/>
            <a:ext cx="7230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+info sobre programas y ayudas CD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a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royectos de I+D empresarial e innov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4 CuadroTexto"/>
          <p:cNvSpPr/>
          <p:nvPr/>
        </p:nvSpPr>
        <p:spPr>
          <a:xfrm>
            <a:off x="3081240" y="4797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190c5"/>
                </a:solidFill>
                <a:latin typeface="Fundamental  Brigade"/>
              </a:rPr>
              <a:t>@CDTIofi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15 Imagen" descr=""/>
          <p:cNvPicPr/>
          <p:nvPr/>
        </p:nvPicPr>
        <p:blipFill>
          <a:blip r:embed="rId5"/>
          <a:stretch/>
        </p:blipFill>
        <p:spPr>
          <a:xfrm>
            <a:off x="2832120" y="3068640"/>
            <a:ext cx="3479760" cy="11494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sldNum" idx="3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EAAA-F805-4919-8D2B-92C7578B23ED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80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81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pic>
        <p:nvPicPr>
          <p:cNvPr id="185" name="9 Imagen" descr=""/>
          <p:cNvPicPr/>
          <p:nvPr/>
        </p:nvPicPr>
        <p:blipFill>
          <a:blip r:embed="rId5"/>
          <a:stretch/>
        </p:blipFill>
        <p:spPr>
          <a:xfrm>
            <a:off x="282600" y="5970600"/>
            <a:ext cx="1587600" cy="528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sldNum" idx="4"/>
          </p:nvPr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AE6C-329D-441D-B7BD-77AD5A905A72}" type="slidenum">
              <a:rPr b="0" lang="es-E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24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225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16000" y="2023920"/>
            <a:ext cx="410364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iciativa CPP de CDTI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52720" y="5157360"/>
            <a:ext cx="4967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Dña. María Vega Gil Díaz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irectora de la Dirección de Certificación 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ompra Pública Innovadora del CD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1 CuadroTexto"/>
          <p:cNvSpPr/>
          <p:nvPr/>
        </p:nvSpPr>
        <p:spPr>
          <a:xfrm>
            <a:off x="1403280" y="309420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JORNADA INSTITUCIONAL DE PRESENTACIÓN DE LA CONSULTA PRELIMINAR DEL MERCAD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TO TECNOLÓGICO PRESERVACIÓN DE ÓRGANO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20 enero 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Llamad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217440" y="1268280"/>
            <a:ext cx="4008600" cy="3313080"/>
          </a:xfrm>
          <a:prstGeom prst="rect">
            <a:avLst/>
          </a:prstGeom>
          <a:ln w="0">
            <a:noFill/>
          </a:ln>
        </p:spPr>
      </p:pic>
      <p:sp>
        <p:nvSpPr>
          <p:cNvPr id="327" name="6 CuadroTexto"/>
          <p:cNvSpPr/>
          <p:nvPr/>
        </p:nvSpPr>
        <p:spPr>
          <a:xfrm>
            <a:off x="4071960" y="1197000"/>
            <a:ext cx="496404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dministración Pública usuari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identificad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n región con F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alto tecnológico TRL 4-5 a 6-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lazo de ejecución ≤ 2 añ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cnologí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innovador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alineada con EECTI y RIS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upuesto ≥ 2 M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totipo como demostrador tecnológ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7 Diagrama" descr=""/>
          <p:cNvPicPr/>
          <p:nvPr/>
        </p:nvPicPr>
        <p:blipFill>
          <a:blip r:embed="rId2"/>
          <a:stretch/>
        </p:blipFill>
        <p:spPr>
          <a:xfrm>
            <a:off x="6461280" y="4979880"/>
            <a:ext cx="2658960" cy="1128960"/>
          </a:xfrm>
          <a:prstGeom prst="rect">
            <a:avLst/>
          </a:prstGeom>
          <a:ln w="0">
            <a:noFill/>
          </a:ln>
        </p:spPr>
      </p:pic>
      <p:sp>
        <p:nvSpPr>
          <p:cNvPr id="329" name="4 CuadroTexto"/>
          <p:cNvSpPr/>
          <p:nvPr/>
        </p:nvSpPr>
        <p:spPr>
          <a:xfrm>
            <a:off x="395280" y="5005440"/>
            <a:ext cx="46674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TRL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echnology Readiness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EECTI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Estatal de Ciencia Tecnología e Innov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RIS3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de Especialización Intelige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1 Título"/>
          <p:cNvSpPr/>
          <p:nvPr/>
        </p:nvSpPr>
        <p:spPr>
          <a:xfrm>
            <a:off x="706320" y="855720"/>
            <a:ext cx="8077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Prioriz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5" descr=""/>
          <p:cNvPicPr/>
          <p:nvPr/>
        </p:nvPicPr>
        <p:blipFill>
          <a:blip r:embed="rId1"/>
          <a:stretch/>
        </p:blipFill>
        <p:spPr>
          <a:xfrm>
            <a:off x="826920" y="1574640"/>
            <a:ext cx="2891160" cy="3173400"/>
          </a:xfrm>
          <a:prstGeom prst="rect">
            <a:avLst/>
          </a:prstGeom>
          <a:ln w="0">
            <a:noFill/>
          </a:ln>
        </p:spPr>
      </p:pic>
      <p:sp>
        <p:nvSpPr>
          <p:cNvPr id="333" name="6 CuadroTexto"/>
          <p:cNvSpPr/>
          <p:nvPr/>
        </p:nvSpPr>
        <p:spPr>
          <a:xfrm>
            <a:off x="3830760" y="1413000"/>
            <a:ext cx="5133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ndos disponibles según reg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rado de innovación de la tecnología propue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omiso y recursos disponibles en Administración Púb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mpacto socioeconóm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Mercado potenci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nversión induci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Generación emple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mpacto medioambien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5A65-38DC-4AEA-B555-CDE207C18F6D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500040" y="355680"/>
            <a:ext cx="84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Llamada de expresiones de interé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1187280" y="1793880"/>
            <a:ext cx="729144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bierta del 29 de Abril al 30 de May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274 propuestas recibi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CAA, Aytos, Confederaciones Hidrográficas, Parques Tecnológicos, Servicios de Salud, Hospitales, ADIF, AENA, UME, GC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55 a Evaluación Téc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iorización de 7 finalis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B65E-A5BF-4789-B9BF-291F2A806554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500040" y="355680"/>
            <a:ext cx="84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Llamada de expresiones de interé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814320" y="1967040"/>
            <a:ext cx="75153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30F5-4315-46A9-A956-2BFCFE867EB8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CP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9 CuadroTexto"/>
          <p:cNvSpPr/>
          <p:nvPr/>
        </p:nvSpPr>
        <p:spPr>
          <a:xfrm>
            <a:off x="3902040" y="1557360"/>
            <a:ext cx="51339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ocer estado del a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rientar potencial pliego de contra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uario final el que sabe neces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ver la particip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te del expediente de contratación » principios básicos LCSP 9/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Jornadas, talleres técnicos, entrevistas,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blicación informe f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6" descr=""/>
          <p:cNvPicPr/>
          <p:nvPr/>
        </p:nvPicPr>
        <p:blipFill>
          <a:blip r:embed="rId1"/>
          <a:stretch/>
        </p:blipFill>
        <p:spPr>
          <a:xfrm>
            <a:off x="108000" y="2077920"/>
            <a:ext cx="38703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2 Marcador de número de diapositiva"/>
          <p:cNvSpPr/>
          <p:nvPr/>
        </p:nvSpPr>
        <p:spPr>
          <a:xfrm>
            <a:off x="4311720" y="69771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E73F-CD31-456B-951A-3DE40B467FD0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-160200" y="620640"/>
            <a:ext cx="804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omiso Admo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16"/>
          <p:cNvSpPr/>
          <p:nvPr/>
        </p:nvSpPr>
        <p:spPr>
          <a:xfrm>
            <a:off x="787320" y="2459160"/>
            <a:ext cx="7451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irma de un convenio de colaboración co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a tecnología innovadora debe dar solución a una necesidad real públi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cepciona y valida 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esión gratuita d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6564240" y="658800"/>
            <a:ext cx="233532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Licit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1"/>
          <a:stretch/>
        </p:blipFill>
        <p:spPr>
          <a:xfrm>
            <a:off x="36360" y="2060640"/>
            <a:ext cx="3865680" cy="2590560"/>
          </a:xfrm>
          <a:prstGeom prst="rect">
            <a:avLst/>
          </a:prstGeom>
          <a:ln w="0">
            <a:noFill/>
          </a:ln>
        </p:spPr>
      </p:pic>
      <p:sp>
        <p:nvSpPr>
          <p:cNvPr id="350" name="8 CuadroTexto"/>
          <p:cNvSpPr/>
          <p:nvPr/>
        </p:nvSpPr>
        <p:spPr>
          <a:xfrm>
            <a:off x="3975120" y="1862280"/>
            <a:ext cx="513396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liegos según conclusiones C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bjeto del contr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olvencia de suministr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iterios adjud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upuesto y pla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stión DP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9" descr=""/>
          <p:cNvPicPr/>
          <p:nvPr/>
        </p:nvPicPr>
        <p:blipFill>
          <a:blip r:embed="rId2"/>
          <a:srcRect l="9766" t="23017" r="8202" b="28629"/>
          <a:stretch/>
        </p:blipFill>
        <p:spPr>
          <a:xfrm>
            <a:off x="468360" y="1525680"/>
            <a:ext cx="298440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Nueva oficina CPI de CDTI </a:t>
            </a: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(Noviembre / 2018)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3 Marcador de contenido" descr=""/>
          <p:cNvPicPr/>
          <p:nvPr/>
        </p:nvPicPr>
        <p:blipFill>
          <a:blip r:embed="rId1"/>
          <a:stretch/>
        </p:blipFill>
        <p:spPr>
          <a:xfrm>
            <a:off x="444600" y="1590840"/>
            <a:ext cx="82486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¿Qué hace la oficina CP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4 Rectángulo"/>
          <p:cNvSpPr/>
          <p:nvPr/>
        </p:nvSpPr>
        <p:spPr>
          <a:xfrm>
            <a:off x="1763640" y="2271600"/>
            <a:ext cx="69850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99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COMPRA PÚBLICA PRECOMER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NODEMA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CURE2INNO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2" descr="http://t1.gstatic.com/images?q=tbn:ANd9GcQOhAEZHrutUECjIbchT6VW8Ojr9V7CErY3sY2l0GzLrDDeEP7Llw"/>
          <p:cNvPicPr/>
          <p:nvPr/>
        </p:nvPicPr>
        <p:blipFill>
          <a:blip r:embed="rId1"/>
          <a:stretch/>
        </p:blipFill>
        <p:spPr>
          <a:xfrm>
            <a:off x="250920" y="2349360"/>
            <a:ext cx="16668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6875640" y="2212920"/>
            <a:ext cx="1608120" cy="2809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116240" y="1484280"/>
            <a:ext cx="3672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(indirecta) al comprador públ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CuadroTexto"/>
          <p:cNvSpPr/>
          <p:nvPr/>
        </p:nvSpPr>
        <p:spPr>
          <a:xfrm>
            <a:off x="1979640" y="3162240"/>
            <a:ext cx="57610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a la  I+D requerida al suministrador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4 CuadroTexto"/>
          <p:cNvSpPr/>
          <p:nvPr/>
        </p:nvSpPr>
        <p:spPr>
          <a:xfrm>
            <a:off x="3968640" y="4788000"/>
            <a:ext cx="50403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Sincronización tiempos licitación vs. evaluació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1042920" y="4299120"/>
            <a:ext cx="2941560" cy="1866600"/>
          </a:xfrm>
          <a:prstGeom prst="rect">
            <a:avLst/>
          </a:prstGeom>
          <a:ln w="0">
            <a:noFill/>
          </a:ln>
        </p:spPr>
      </p:pic>
      <p:sp>
        <p:nvSpPr>
          <p:cNvPr id="278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Innodemand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3"/>
          <a:stretch/>
        </p:blipFill>
        <p:spPr>
          <a:xfrm>
            <a:off x="1030320" y="1386000"/>
            <a:ext cx="291780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2 Marcador de número de diapositiva"/>
          <p:cNvSpPr/>
          <p:nvPr/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DE50-B8FB-4123-BD3D-CA648F48B2B7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406440" y="333360"/>
            <a:ext cx="804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Proyecto P2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74520" y="1836720"/>
            <a:ext cx="4753080" cy="3247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6948360" y="333360"/>
            <a:ext cx="1971720" cy="703440"/>
          </a:xfrm>
          <a:prstGeom prst="rect">
            <a:avLst/>
          </a:prstGeom>
          <a:ln w="0">
            <a:noFill/>
          </a:ln>
        </p:spPr>
      </p:pic>
      <p:sp>
        <p:nvSpPr>
          <p:cNvPr id="284" name="10 CuadroTexto"/>
          <p:cNvSpPr/>
          <p:nvPr/>
        </p:nvSpPr>
        <p:spPr>
          <a:xfrm>
            <a:off x="3902040" y="1628640"/>
            <a:ext cx="51339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0 Centros de Competencia (CC) CPI – 5 existentes + 5 nue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rcambio buenas práctic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ineación estrateg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ción CPI nacional y europea (H20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eación nuevas herramientas y servi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¿Qué CPP va a hacer CDT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539640" y="1996920"/>
            <a:ext cx="798984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a Pública Precomercial (CPP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6 Marcador de contenido" descr=""/>
          <p:cNvPicPr/>
          <p:nvPr/>
        </p:nvPicPr>
        <p:blipFill>
          <a:blip r:embed="rId1"/>
          <a:stretch/>
        </p:blipFill>
        <p:spPr>
          <a:xfrm>
            <a:off x="401760" y="1573200"/>
            <a:ext cx="834048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de CDT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10 CuadroTexto"/>
          <p:cNvSpPr/>
          <p:nvPr/>
        </p:nvSpPr>
        <p:spPr>
          <a:xfrm>
            <a:off x="3902040" y="1557360"/>
            <a:ext cx="513396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CDTI actuará com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icita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rvicios I+D y/o prototip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tecnología no exist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Útil para otra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dministraciones Públ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esió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l protot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100 M€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l FEDER 2014-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7" descr=""/>
          <p:cNvPicPr/>
          <p:nvPr/>
        </p:nvPicPr>
        <p:blipFill>
          <a:blip r:embed="rId1"/>
          <a:stretch/>
        </p:blipFill>
        <p:spPr>
          <a:xfrm>
            <a:off x="179280" y="1987560"/>
            <a:ext cx="37227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19 Flecha derecha"/>
          <p:cNvSpPr/>
          <p:nvPr/>
        </p:nvSpPr>
        <p:spPr>
          <a:xfrm>
            <a:off x="611280" y="1197000"/>
            <a:ext cx="7921440" cy="3672000"/>
          </a:xfrm>
          <a:prstGeom prst="right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5607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Esquem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4 Grupo"/>
          <p:cNvGrpSpPr/>
          <p:nvPr/>
        </p:nvGrpSpPr>
        <p:grpSpPr>
          <a:xfrm>
            <a:off x="755640" y="2376360"/>
            <a:ext cx="2027160" cy="1339920"/>
            <a:chOff x="755640" y="2376360"/>
            <a:chExt cx="2027160" cy="1339920"/>
          </a:xfrm>
        </p:grpSpPr>
        <p:grpSp>
          <p:nvGrpSpPr>
            <p:cNvPr id="295" name="2 Rectángulo redondeado"/>
            <p:cNvGrpSpPr/>
            <p:nvPr/>
          </p:nvGrpSpPr>
          <p:grpSpPr>
            <a:xfrm>
              <a:off x="755640" y="2376360"/>
              <a:ext cx="2027160" cy="1339920"/>
              <a:chOff x="755640" y="2376360"/>
              <a:chExt cx="2027160" cy="1339920"/>
            </a:xfrm>
          </p:grpSpPr>
          <p:pic>
            <p:nvPicPr>
              <p:cNvPr id="296" name="2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55640" y="2376360"/>
                <a:ext cx="2027160" cy="13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848520" y="2467440"/>
                <a:ext cx="1844280" cy="116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8" name="1 CuadroTexto"/>
            <p:cNvSpPr/>
            <p:nvPr/>
          </p:nvSpPr>
          <p:spPr>
            <a:xfrm>
              <a:off x="802080" y="2552400"/>
              <a:ext cx="1954080" cy="10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Llamada de expresiones de interés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Soluciones innovadores orientadas a demanda públic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14 Grupo"/>
          <p:cNvGrpSpPr/>
          <p:nvPr/>
        </p:nvGrpSpPr>
        <p:grpSpPr>
          <a:xfrm>
            <a:off x="2738520" y="2360520"/>
            <a:ext cx="1265040" cy="1339920"/>
            <a:chOff x="2738520" y="2360520"/>
            <a:chExt cx="1265040" cy="1339920"/>
          </a:xfrm>
        </p:grpSpPr>
        <p:grpSp>
          <p:nvGrpSpPr>
            <p:cNvPr id="300" name="5 Rectángulo redondeado"/>
            <p:cNvGrpSpPr/>
            <p:nvPr/>
          </p:nvGrpSpPr>
          <p:grpSpPr>
            <a:xfrm>
              <a:off x="2846880" y="2360520"/>
              <a:ext cx="1072800" cy="1339920"/>
              <a:chOff x="2846880" y="2360520"/>
              <a:chExt cx="1072800" cy="1339920"/>
            </a:xfrm>
          </p:grpSpPr>
          <p:pic>
            <p:nvPicPr>
              <p:cNvPr id="301" name="5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2846880" y="2360520"/>
                <a:ext cx="1072800" cy="13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>
                <a:off x="2924640" y="2432520"/>
                <a:ext cx="914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3" name="6 CuadroTexto"/>
            <p:cNvSpPr/>
            <p:nvPr/>
          </p:nvSpPr>
          <p:spPr>
            <a:xfrm>
              <a:off x="2738520" y="269316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Repositorio priorizado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15 Grupo"/>
          <p:cNvGrpSpPr/>
          <p:nvPr/>
        </p:nvGrpSpPr>
        <p:grpSpPr>
          <a:xfrm>
            <a:off x="4103640" y="2357280"/>
            <a:ext cx="1044720" cy="1339920"/>
            <a:chOff x="4103640" y="2357280"/>
            <a:chExt cx="1044720" cy="1339920"/>
          </a:xfrm>
        </p:grpSpPr>
        <p:grpSp>
          <p:nvGrpSpPr>
            <p:cNvPr id="305" name="7 Rectángulo redondeado"/>
            <p:cNvGrpSpPr/>
            <p:nvPr/>
          </p:nvGrpSpPr>
          <p:grpSpPr>
            <a:xfrm>
              <a:off x="4103640" y="2357280"/>
              <a:ext cx="1044720" cy="1339920"/>
              <a:chOff x="4103640" y="2357280"/>
              <a:chExt cx="1044720" cy="1339920"/>
            </a:xfrm>
          </p:grpSpPr>
          <p:pic>
            <p:nvPicPr>
              <p:cNvPr id="306" name="7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4103640" y="2357280"/>
                <a:ext cx="1044720" cy="13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4179240" y="2432160"/>
                <a:ext cx="894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8" name="8 CuadroTexto"/>
            <p:cNvSpPr/>
            <p:nvPr/>
          </p:nvSpPr>
          <p:spPr>
            <a:xfrm>
              <a:off x="4104360" y="2604240"/>
              <a:ext cx="1023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Consulta preliminar mercad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16 Grupo"/>
          <p:cNvGrpSpPr/>
          <p:nvPr/>
        </p:nvGrpSpPr>
        <p:grpSpPr>
          <a:xfrm>
            <a:off x="5208480" y="2351160"/>
            <a:ext cx="1265400" cy="1339920"/>
            <a:chOff x="5208480" y="2351160"/>
            <a:chExt cx="1265400" cy="1339920"/>
          </a:xfrm>
        </p:grpSpPr>
        <p:grpSp>
          <p:nvGrpSpPr>
            <p:cNvPr id="310" name="9 Rectángulo redondeado"/>
            <p:cNvGrpSpPr/>
            <p:nvPr/>
          </p:nvGrpSpPr>
          <p:grpSpPr>
            <a:xfrm>
              <a:off x="5315400" y="2351160"/>
              <a:ext cx="1073160" cy="1339920"/>
              <a:chOff x="5315400" y="2351160"/>
              <a:chExt cx="1073160" cy="1339920"/>
            </a:xfrm>
          </p:grpSpPr>
          <p:pic>
            <p:nvPicPr>
              <p:cNvPr id="311" name="9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5315400" y="2351160"/>
                <a:ext cx="1073160" cy="13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5394600" y="2426040"/>
                <a:ext cx="915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3" name="10 CuadroTexto"/>
            <p:cNvSpPr/>
            <p:nvPr/>
          </p:nvSpPr>
          <p:spPr>
            <a:xfrm>
              <a:off x="5208480" y="2811600"/>
              <a:ext cx="126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Licitación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17 Grupo"/>
          <p:cNvGrpSpPr/>
          <p:nvPr/>
        </p:nvGrpSpPr>
        <p:grpSpPr>
          <a:xfrm>
            <a:off x="6404040" y="2349360"/>
            <a:ext cx="1263600" cy="1339920"/>
            <a:chOff x="6404040" y="2349360"/>
            <a:chExt cx="1263600" cy="1339920"/>
          </a:xfrm>
        </p:grpSpPr>
        <p:grpSp>
          <p:nvGrpSpPr>
            <p:cNvPr id="315" name="12 Rectángulo redondeado"/>
            <p:cNvGrpSpPr/>
            <p:nvPr/>
          </p:nvGrpSpPr>
          <p:grpSpPr>
            <a:xfrm>
              <a:off x="6449400" y="2349360"/>
              <a:ext cx="1182600" cy="1339920"/>
              <a:chOff x="6449400" y="2349360"/>
              <a:chExt cx="1182600" cy="1339920"/>
            </a:xfrm>
          </p:grpSpPr>
          <p:pic>
            <p:nvPicPr>
              <p:cNvPr id="316" name="12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6449400" y="2349360"/>
                <a:ext cx="1182600" cy="13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6529680" y="2427840"/>
                <a:ext cx="1017000" cy="11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8" name="13 CuadroTexto"/>
            <p:cNvSpPr/>
            <p:nvPr/>
          </p:nvSpPr>
          <p:spPr>
            <a:xfrm>
              <a:off x="6404040" y="2724840"/>
              <a:ext cx="126360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Seguimiento 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Certificación por fases</a:t>
              </a:r>
              <a:r>
                <a:rPr b="1" lang="es-E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21 Conector recto"/>
          <p:cNvSpPr/>
          <p:nvPr/>
        </p:nvSpPr>
        <p:spPr>
          <a:xfrm>
            <a:off x="3941640" y="1700280"/>
            <a:ext cx="0" cy="316872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24 Rectángulo redondeado"/>
          <p:cNvGrpSpPr/>
          <p:nvPr/>
        </p:nvGrpSpPr>
        <p:grpSpPr>
          <a:xfrm>
            <a:off x="3943440" y="4005360"/>
            <a:ext cx="1414440" cy="1395360"/>
            <a:chOff x="3943440" y="4005360"/>
            <a:chExt cx="1414440" cy="1395360"/>
          </a:xfrm>
        </p:grpSpPr>
        <p:pic>
          <p:nvPicPr>
            <p:cNvPr id="321" name="24 Rectángulo redondeado" descr=""/>
            <p:cNvPicPr/>
            <p:nvPr/>
          </p:nvPicPr>
          <p:blipFill>
            <a:blip r:embed="rId6"/>
            <a:stretch/>
          </p:blipFill>
          <p:spPr>
            <a:xfrm>
              <a:off x="3943440" y="4005360"/>
              <a:ext cx="14144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038480" y="4100400"/>
              <a:ext cx="1224000" cy="12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25 CuadroTexto"/>
          <p:cNvSpPr/>
          <p:nvPr/>
        </p:nvSpPr>
        <p:spPr>
          <a:xfrm>
            <a:off x="4030560" y="4309920"/>
            <a:ext cx="12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Convenio CDTI -Adm. Públ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26 Conector recto"/>
          <p:cNvSpPr/>
          <p:nvPr/>
        </p:nvSpPr>
        <p:spPr>
          <a:xfrm>
            <a:off x="5346720" y="1706400"/>
            <a:ext cx="0" cy="316728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30T14:54:22Z</dcterms:created>
  <dc:creator>Sergio Capitan Herraiz</dc:creator>
  <dc:description/>
  <dc:language>en-US</dc:language>
  <cp:lastModifiedBy>Ana Isabel Rodriguez Belda</cp:lastModifiedBy>
  <cp:lastPrinted>2020-01-15T15:17:31Z</cp:lastPrinted>
  <dcterms:modified xsi:type="dcterms:W3CDTF">2020-01-19T16:53:05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C787B92E6A36C4A83AD37B196E976C7</vt:lpwstr>
  </property>
</Properties>
</file>